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6E1-0B91-46FC-9785-585D1581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E87-D7A8-470D-8E35-CA37E7EC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371-BBD4-40BA-83F1-49E768AF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5E4-43AF-497A-A7C0-B5078AF5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FE0-612E-4934-9021-7330941C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C20-D2D5-41AB-B5DB-F270C21F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306-D8E9-4B65-AD65-622F1E89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19D-C666-4BF8-B3F8-80629926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118-3D43-46CB-8BEC-A1D4DEAC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4CF-D96D-46D7-8BB5-FFDA272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0BF-DAE2-4D93-B36C-6DA7EB70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6B2-E4C8-46C9-B375-56AFB86F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EB63-5BFF-4687-B08A-E8C9120FF6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fe of Christ, Part 2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st We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rter 10, Lesson 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15:33-47, Matt.. 27:45-66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ke 23:44-56, John 19:28-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 179-1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, We Would See Je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Jesus on the cross, 12 noon – 3 pm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 15:33-37, Matt. 27:45-50,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uke 23:44-46, John 19:28-30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ur darkness came over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ried out “Eli, Eli, lama sabachthan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Cor 5:21 For he hath made him to be sin for us, who knew no sin; that we might be made the righteousness of God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aid “I am thirs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hecy was fulfill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They gave me also gall for my meat; and in my thirst they gave me vinegar to drink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ried out “It is finish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iracles accompanying the death of Christ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 15:38-41, Matt. 27:51-56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uke 23:45, 47 - 49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 to the Most Holy Place was torn from top to bot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arth shook and rocks were sp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bs were opened and many holy ones were ra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 centurion cried out “Truly this was the Son of G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followers stood a long way off and watc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an had bruised His heel, but Christ would soon crush the head of Sa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burial of Jesus’ body in the tomb of Joseph of Arimathea 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 15:42-46, Matt. 27:57-60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uke 23:50-54, John 19:31-4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ews asked Pilate to break the legs of the dying men to hasten their de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ldier thrust his spear into Jesus’ side; blood and water came gush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 of Arimathea went to Pilate and asked for Jesus’ body that he might bur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odemus brought spices as he came to help bury Je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mb was carved in stone with a great stone for a 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watch over the sabbath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 15:47, Matt. 27:61-66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uke 23:55-56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Magdalene and Mary the mother of Joses observed the bu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hopes were buried with Jesus although He predicted His 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 asked Pilate to secure the t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anticipated that His disciples might steal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evidence that such an idea even occurred to His dis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Ray Cooley</cp:lastModifiedBy>
  <dcterms:modified xsi:type="dcterms:W3CDTF">2006-09-08T17:17:58Z</dcterms:modified>
  <cp:revision>39</cp:revision>
  <dc:subject/>
  <dc:title>Life of Christ, Part 2 In Perea</dc:title>
</cp:coreProperties>
</file>